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3ECA-C205-4FD5-9998-0D0D95E65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989F-27EF-4306-A849-E54BAB4E8760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DFB5-2DF1-4A1F-9904-21C2840AB196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6207-61D0-4F31-9FA1-AC3EFF070533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B84A-EBB6-4486-A60A-83C4A870B76D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E863-0BB4-4DE7-9F98-B7787E00DE16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C7C8-B03D-4916-B9CA-7D0736D4820A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7A71-A704-41ED-8539-18ED395E42B8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7942-FC7A-412F-97DE-D7210CBFACBA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BDAA-4F68-4A93-A4F2-94502E8AED4B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E97-0C41-47A7-B388-623B032B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04F-3612-4481-9513-5C954717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B9F-925E-4455-B106-C6040F6B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FAC-768A-42FF-BE9E-9D079B66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386C-5996-43E9-8FB1-C5893860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4E20-5384-4DBD-8143-449195F3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D4CA-70FF-4D19-AF05-95B57B38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7CB4-50C9-4299-AAB3-A59386B8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FA77-7DCA-47B0-9596-29A66743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5508-0658-4AD5-96F0-ABBB631F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33E7-8327-4AF8-95A9-BA41DA23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164-889A-44F1-BEB5-D5E84A85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E370-458A-4044-90EA-67886245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EE3A-64DA-43FC-91AB-90F96438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F377-B3CD-4B11-9B11-F7DBA452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5D20-81F3-4E4F-9E76-B1199B8A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CAAC-642A-4BB6-8E5E-0DFD875E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62C-BED2-4D1D-B63C-2479383D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A92-E205-41D1-A6E4-4B3E58D2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25C-021F-4252-9422-6545D60C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04C-D57B-4094-92E2-566BC1B0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2A7-E999-47F2-BF70-1297A19D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5935-5C5E-4F81-9F4D-B5FCB4C3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ADD-C3DB-4CAC-8A9D-14265F1E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E8F6-816D-438B-9D35-6C83C16EC7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A081-D834-4E7A-90CB-158D9D9332D2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cc"/>
                </a:solidFill>
                <a:latin typeface="Arial"/>
              </a:rPr>
              <a:t>Chemistry 11</a:t>
            </a:r>
            <a:endParaRPr b="0" lang="en-US" sz="6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toichiometr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What is Stoichiometry?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oichiometry is the study of 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quantitie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nvolved in chemical reaction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word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stoichiometry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eans “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measuring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element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oichiometry allows a chemist to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predic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how much of a reactant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react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or how much of a product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form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n a chemical reactio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Balanced Reaction Equations 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and the Mole Ratio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sider this balanced reaction equatio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(s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+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(g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A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3(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efficient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of this reaction represent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- The number of react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ARTICL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- The number of react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MO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These numbers are FIXED, the ratio of reacting substances NEVER chang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Balanced Reaction Equations 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and the Mole Ratio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e can interpret this reaction in 2 way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(s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+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(g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Al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3(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) Every ti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Al react wit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lecul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lecul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Al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orm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) Everyti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l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Al atoms react with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 mol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molecules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l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Al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molecules form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Using the Mole Ratio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member that the coefficients from a balanced reaction represent the ratio of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l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substances that react and form during a chemical reac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se numbers are fixed - they do not chang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e can use these ratios to predict the amounts of substances that react and form in a reaction when any amount of a substance is reacted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conversion factor we use to make these predictions is called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LE RATIO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Using the Mole Ratio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this reactio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Al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Arial"/>
              </a:rPr>
              <a:t>(s)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 +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Arial"/>
              </a:rPr>
              <a:t>2(g)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→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Al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0" lang="en-US" sz="36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3(s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is the minimum amount of 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oles that react with 1.20 moles of Al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solve this, create a mole rati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988920" y="4648320"/>
                <a:ext cx="70135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les of unknown = moles given 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efficient of unknow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efficient of give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Using the Mole Ratio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o solve, substitute in the values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 moles given = 1.20 moles A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 moles of unknown = ? moles O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 coefficient of given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A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 coefficient of unknown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O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mole ratio become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e predict that 0.900 mol of 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react with 1.20 mol of A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460440" y="3886200"/>
                <a:ext cx="8105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oles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 moles Al </m:t>
                    </m:r>
                    <m:r>
                      <m:t xml:space="preserve">´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 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 A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 mol 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900 mol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Using the Mole Ratio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e can also predict the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oretical yiel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” - which is defined as the amount of a product forms if all the reactants are converted to product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at it the theoretical yield of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Al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when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1.20 moles of Al reacts? Using the mole ratio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We predict that 0.600 mol of Al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  <a:ea typeface="Arial"/>
              </a:rPr>
              <a:t>3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should form, if all the reactants are converted into products (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eoretical yiel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28600" y="4038480"/>
                <a:ext cx="86486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oles A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 moles Al </m:t>
                    </m:r>
                    <m:r>
                      <m:t xml:space="preserve">´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 A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 A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 mol A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600 mol A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erminology of Stoichiometry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Coefficient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-  Numbers that represent the ideal ratios of reacting moles in a balanced chemical reaction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Mole Rat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conversion factor that allows you to determine how much of one substance reacts or forms in a chemical reaction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Theoretical Yie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amount of a product that should form in a chemical reaction, if all of the reactants are converted into product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2:53:31Z</dcterms:created>
  <dc:creator>Information Services</dc:creator>
  <dc:description/>
  <dc:language>en-US</dc:language>
  <cp:lastModifiedBy>Caitlin</cp:lastModifiedBy>
  <dcterms:modified xsi:type="dcterms:W3CDTF">2012-04-15T23:17:47Z</dcterms:modified>
  <cp:revision>17</cp:revision>
  <dc:subject/>
  <dc:title>Chemistry 11</dc:title>
</cp:coreProperties>
</file>